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2.gif" ContentType="image/gif"/>
  <Override PartName="/ppt/media/image15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13.gif" ContentType="image/gif"/>
  <Override PartName="/ppt/media/image14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05D-8552-4867-AB03-D9CA407C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6BD-60AF-4102-A22F-1F58BB8A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9A8-FD4D-4206-92EE-65F7781E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A0A-AC88-4980-9B16-6E0F3A2E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3074-0CE7-4F56-840B-0581C454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E0D1-7B5E-416D-9A2B-2EE9BD18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9284-0EE2-4860-8F58-CEF52FE6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5582-9CCE-4029-94F3-4B262FCC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4FEE-98BB-4AA7-AEDF-1F2D9145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821D-D0BF-494E-A170-7C03FA19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AFD0-8C0C-4A9E-92A6-8D7EBFC4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840-43B0-46BC-B26B-5D5F5685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963F-71A6-4904-9115-3DA33ADC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4E71-B3B3-4854-ACB0-88BBDAD2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9435-F6F4-430A-ADF9-FB39A4D6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CA43-32BD-459C-8E82-D960BDB4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0B6C-360C-440B-A22E-64325AAC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2DB1-8E66-42A7-8FC1-14D91D0B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04492-CD94-4D9F-A810-877599FC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921C7-E968-4D27-A92E-A7487899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8EE1A-B8DD-44F3-9707-45409807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A696C-3781-4B79-96B1-43DB56D7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E5B-53FE-4F04-84BA-3F62A720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8BD9E-9E5B-4BBB-9C94-66C7A3CD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2EC9E-56C0-4BA9-B745-D0468844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B46BC-0837-4A66-A2CE-BDA2FC4F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54481-0635-4FC1-B78A-42D8831C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5F61A-E727-4301-BE1B-86D351A3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99D00-7A3A-44ED-B17E-ED1A83DB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B4F8-FE18-4260-B9C2-CE3B6744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60451-6C3D-48CD-9392-E14C3289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011B8-0FFD-4AE8-A4E9-0FAA9658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F45E6-6F1D-48AA-AD2C-2F9D9626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E8C-7854-48E8-81BF-18D12C8F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80A3D-B758-41F7-9722-5F504C6F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67C4A-77CC-4988-9A1C-2FECE90C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E5D67-BB3D-422C-BB64-5DF3225D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F90FD-A551-4433-8819-5BD83189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30D2A-65B3-4700-A803-5A50B377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E5A1F-7B83-4150-B71B-4CAC325C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29024-62E2-4749-BBBA-6BF1E604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F57B8-1C40-4837-BFA6-221A332E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9365B-0522-4D6A-B64E-62ACA904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9C386-2A57-4D78-AC69-2E6EFC25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304-7E10-4B47-B012-ECD2C160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43436-154A-4949-B4F6-7ACE9A96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B6CDC-DE22-44CA-9573-BBA317B0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59F46-D0BD-45F5-89DC-7FEB0AEE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9829E-5A74-4D08-ACE1-A54ED289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4C960-42BB-4F3D-8742-4C1DEC8B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B50E5-9CAE-40E7-BE4D-FDDD36A4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BAC8C-FA62-43F2-808C-4E445C60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0CB3B-F6AD-47D6-9FFD-009568B7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32A37-D2DC-495F-9411-9ACE448E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E26D6-B579-40C4-8ED7-73180F75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8F7-DA57-43C1-ADC4-F5487B0E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8D047-380A-4B65-BA0B-ADBE7141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1449B-5663-4AAB-9A51-21A760B6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B7BBF-B882-4A6E-BCA2-6A85753A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BE345-58E4-43A7-AB48-49310BC6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1929C-B41E-4949-A738-D541DC6E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EA36C-7AE5-44BB-B0CD-D2163D39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59804-1620-4AB1-AAF7-10A0A316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A907D-0E68-43DE-B881-40D5CA48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1B2CF-D5C6-4236-8275-37EB3F33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9674A-E0B6-4F12-8DC5-B17E4647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60D-D20B-4885-8BE3-08895C74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83BA8-04FF-4EBD-9EDF-E4979177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9B05B-EBB8-4C22-99C9-9F3EDFEA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F1F76-1798-465B-84C3-1D91B639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3E9D1-D74C-4813-8A81-A2E6EB63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D8D0E-2EA8-475E-B4A9-A66E8D3A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D5598-71DD-410E-94E3-4E22B3DB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02219-CD1D-4EF7-B04A-30928116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084B6-DF08-49E0-81F2-04BECFB7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93C9E-CE32-40F7-9AB7-35307868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70D67-863B-4705-BC0E-1433A5B2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81B-93EA-4145-97FE-1350B328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3B116-8C0D-421E-AD1F-C94CC9C2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F7C53-A923-47FA-9603-8542B6D3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9A024-1168-4352-9FA3-DE91AE5C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540B5-AF04-4BC8-86BC-8482967C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829C7-CF3F-443B-9734-778FCF39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B59B-32C6-4F1A-AA22-7D4CDAF2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AEDB-9A9C-4385-8CCB-03D8FBD985FA}" type="slidenum"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52D8-BF63-4F3D-82D7-A6F1C124BD7E}" type="slidenum"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BF81-9CB1-4329-A61E-6887F7520637}" type="slidenum"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789D-9FF2-438D-9327-2B08EA015F01}" type="slidenum"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0DFB-6D8C-44D8-9A0A-454293520B37}" type="slidenum"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2935-27B2-417D-8319-11B277D568B5}" type="slidenum"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7E38-23B9-4111-81E3-7CEB1B566B50}" type="slidenum"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386064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900" spc="-1" strike="noStrike">
                <a:solidFill>
                  <a:srgbClr val="ffffff"/>
                </a:solidFill>
                <a:latin typeface="Candara"/>
              </a:rPr>
              <a:t>EL CLIMA</a:t>
            </a:r>
            <a:endParaRPr b="0" lang="en-US" sz="5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250920" y="587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ndara"/>
              </a:rPr>
              <a:t>4º DE PRIMA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1 Imagen" descr=""/>
          <p:cNvPicPr/>
          <p:nvPr/>
        </p:nvPicPr>
        <p:blipFill>
          <a:blip r:embed="rId1"/>
          <a:stretch/>
        </p:blipFill>
        <p:spPr>
          <a:xfrm>
            <a:off x="324000" y="5661000"/>
            <a:ext cx="1423800" cy="1015920"/>
          </a:xfrm>
          <a:prstGeom prst="rect">
            <a:avLst/>
          </a:prstGeom>
          <a:ln w="0">
            <a:noFill/>
          </a:ln>
        </p:spPr>
      </p:pic>
      <p:pic>
        <p:nvPicPr>
          <p:cNvPr id="338" name="3 Imagen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7920000" cy="3291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20160" y="1483920"/>
            <a:ext cx="5272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09040" indent="-2534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1" marL="509040" indent="-2534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73e87"/>
                </a:solidFill>
                <a:latin typeface="Candara"/>
              </a:rPr>
              <a:t>La temperatura</a:t>
            </a: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. Si la temperatura es alta el tiempo es caluroso y si es baja el tiempo es frio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2" marL="768960" indent="-2534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La temperatura se mide con el termómetro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1" marL="509040" indent="-2534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73e87"/>
                </a:solidFill>
                <a:latin typeface="Candara"/>
              </a:rPr>
              <a:t>Las precipitaciones</a:t>
            </a: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: Se producen cuando el agua de las nubes cae a la tierra, en forma de 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2" marL="768960" indent="-2534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lluvia, nieve y granizo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2" marL="768960" indent="-2534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La cantidad de agua que cae se mide con el pluviómetro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1" marL="509040" indent="-2534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73e87"/>
                </a:solidFill>
                <a:latin typeface="Candara"/>
              </a:rPr>
              <a:t>El Viento </a:t>
            </a: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se produce cuando el aire está en movimiento según su fuerza puede ser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3" marL="1036440" indent="-2538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brisa, vendaval y huracán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3" marL="1036440" indent="-2538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Medimos su velocidad en kilómetros por hora con el  anemómetro y su dirección con la  velet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3" marL="1036440" indent="-2538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El meteorólogo es la persona que predice el tiempo utilizando los anteriores datos y lo que indican los satélites artificiales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150"/>
              </a:spcBef>
              <a:buClr>
                <a:srgbClr val="31b6f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150"/>
              </a:spcBef>
              <a:buClr>
                <a:srgbClr val="31b6f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150"/>
              </a:spcBef>
              <a:buClr>
                <a:srgbClr val="31b6f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ndara"/>
              </a:rPr>
              <a:t>El tiempo atmosférico: se compone de temperatura, precipitaciones y viento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1 Imagen" descr=""/>
          <p:cNvPicPr/>
          <p:nvPr/>
        </p:nvPicPr>
        <p:blipFill>
          <a:blip r:embed="rId1"/>
          <a:stretch/>
        </p:blipFill>
        <p:spPr>
          <a:xfrm>
            <a:off x="6440400" y="1125360"/>
            <a:ext cx="1308240" cy="1798920"/>
          </a:xfrm>
          <a:prstGeom prst="rect">
            <a:avLst/>
          </a:prstGeom>
          <a:ln w="0">
            <a:noFill/>
          </a:ln>
        </p:spPr>
      </p:pic>
      <p:pic>
        <p:nvPicPr>
          <p:cNvPr id="342" name="3 Imagen" descr=""/>
          <p:cNvPicPr/>
          <p:nvPr/>
        </p:nvPicPr>
        <p:blipFill>
          <a:blip r:embed="rId2"/>
          <a:stretch/>
        </p:blipFill>
        <p:spPr>
          <a:xfrm>
            <a:off x="7715160" y="1603440"/>
            <a:ext cx="1166760" cy="1922400"/>
          </a:xfrm>
          <a:prstGeom prst="rect">
            <a:avLst/>
          </a:prstGeom>
          <a:ln w="0">
            <a:noFill/>
          </a:ln>
        </p:spPr>
      </p:pic>
      <p:pic>
        <p:nvPicPr>
          <p:cNvPr id="343" name="4 Imagen" descr=""/>
          <p:cNvPicPr/>
          <p:nvPr/>
        </p:nvPicPr>
        <p:blipFill>
          <a:blip r:embed="rId3"/>
          <a:stretch/>
        </p:blipFill>
        <p:spPr>
          <a:xfrm>
            <a:off x="5580000" y="2997360"/>
            <a:ext cx="1656000" cy="1420560"/>
          </a:xfrm>
          <a:prstGeom prst="rect">
            <a:avLst/>
          </a:prstGeom>
          <a:ln w="0">
            <a:noFill/>
          </a:ln>
        </p:spPr>
      </p:pic>
      <p:pic>
        <p:nvPicPr>
          <p:cNvPr id="344" name="5 Imagen" descr=""/>
          <p:cNvPicPr/>
          <p:nvPr/>
        </p:nvPicPr>
        <p:blipFill>
          <a:blip r:embed="rId4"/>
          <a:stretch/>
        </p:blipFill>
        <p:spPr>
          <a:xfrm>
            <a:off x="7993080" y="3716280"/>
            <a:ext cx="888840" cy="1401840"/>
          </a:xfrm>
          <a:prstGeom prst="rect">
            <a:avLst/>
          </a:prstGeom>
          <a:ln w="0">
            <a:noFill/>
          </a:ln>
        </p:spPr>
      </p:pic>
      <p:pic>
        <p:nvPicPr>
          <p:cNvPr id="345" name="6 Imagen" descr=""/>
          <p:cNvPicPr/>
          <p:nvPr/>
        </p:nvPicPr>
        <p:blipFill>
          <a:blip r:embed="rId5"/>
          <a:stretch/>
        </p:blipFill>
        <p:spPr>
          <a:xfrm>
            <a:off x="5486400" y="4417920"/>
            <a:ext cx="1527120" cy="2286000"/>
          </a:xfrm>
          <a:prstGeom prst="rect">
            <a:avLst/>
          </a:prstGeom>
          <a:ln w="0">
            <a:noFill/>
          </a:ln>
        </p:spPr>
      </p:pic>
      <p:pic>
        <p:nvPicPr>
          <p:cNvPr id="346" name="7 Imagen" descr=""/>
          <p:cNvPicPr/>
          <p:nvPr/>
        </p:nvPicPr>
        <p:blipFill>
          <a:blip r:embed="rId6"/>
          <a:stretch/>
        </p:blipFill>
        <p:spPr>
          <a:xfrm>
            <a:off x="6950160" y="5176800"/>
            <a:ext cx="1931760" cy="1449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84000" y="1412640"/>
            <a:ext cx="784836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73e87"/>
                </a:solidFill>
                <a:latin typeface="Candara"/>
              </a:rPr>
              <a:t>Es el tiempo atmosférico que predomina en una zona a lo largo de varios años. El principal factor es su situación respecto a los polos: norte y sur, también influye la altitud, el relieve y la distancia al mar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b9899"/>
                </a:solidFill>
                <a:latin typeface="Candara"/>
              </a:rPr>
              <a:t>EL CLI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1 Imagen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7775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684000" y="1773000"/>
            <a:ext cx="7407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Primavera, Verano, Otoño e Invierno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b9899"/>
                </a:solidFill>
                <a:latin typeface="Candara"/>
              </a:rPr>
              <a:t>Las estacion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3 Imagen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3079800" cy="1893600"/>
          </a:xfrm>
          <a:prstGeom prst="rect">
            <a:avLst/>
          </a:prstGeom>
          <a:ln w="0">
            <a:noFill/>
          </a:ln>
        </p:spPr>
      </p:pic>
      <p:pic>
        <p:nvPicPr>
          <p:cNvPr id="353" name="5 Imagen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2799000" cy="1893960"/>
          </a:xfrm>
          <a:prstGeom prst="rect">
            <a:avLst/>
          </a:prstGeom>
          <a:ln w="0">
            <a:noFill/>
          </a:ln>
        </p:spPr>
      </p:pic>
      <p:pic>
        <p:nvPicPr>
          <p:cNvPr id="354" name="6 Imagen" descr=""/>
          <p:cNvPicPr/>
          <p:nvPr/>
        </p:nvPicPr>
        <p:blipFill>
          <a:blip r:embed="rId3"/>
          <a:stretch/>
        </p:blipFill>
        <p:spPr>
          <a:xfrm>
            <a:off x="250920" y="4635360"/>
            <a:ext cx="3079800" cy="1754280"/>
          </a:xfrm>
          <a:prstGeom prst="rect">
            <a:avLst/>
          </a:prstGeom>
          <a:ln w="0">
            <a:noFill/>
          </a:ln>
        </p:spPr>
      </p:pic>
      <p:pic>
        <p:nvPicPr>
          <p:cNvPr id="355" name="7 Imagen" descr=""/>
          <p:cNvPicPr/>
          <p:nvPr/>
        </p:nvPicPr>
        <p:blipFill>
          <a:blip r:embed="rId4"/>
          <a:stretch/>
        </p:blipFill>
        <p:spPr>
          <a:xfrm>
            <a:off x="4716360" y="4508640"/>
            <a:ext cx="275112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684000" y="1557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Clima de la llanur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4480" indent="-2674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73e87"/>
                </a:solidFill>
                <a:latin typeface="Candara"/>
              </a:rPr>
              <a:t>Temperaturas muy contrastadas: veranos muy calurosos e inviernos fríos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64480" indent="-2674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73e87"/>
                </a:solidFill>
                <a:latin typeface="Candara"/>
              </a:rPr>
              <a:t>Precipitaciones escasas en primavera y otoño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Clima de la montañ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4480" indent="-2674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73e87"/>
                </a:solidFill>
                <a:latin typeface="Candara"/>
              </a:rPr>
              <a:t>Temperaturas más bajas, en verano menos elevadas que en la llanura, y en invierno hace más frio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64480" indent="-2674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73e87"/>
                </a:solidFill>
                <a:latin typeface="Candara"/>
              </a:rPr>
              <a:t>Precipitaciones frecuentes durante todo el año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64480" indent="-2674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b9899"/>
                </a:solidFill>
                <a:latin typeface="Candara"/>
              </a:rPr>
              <a:t>El clima de Castilla la Manch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4 Imagen" descr=""/>
          <p:cNvPicPr/>
          <p:nvPr/>
        </p:nvPicPr>
        <p:blipFill>
          <a:blip r:embed="rId1"/>
          <a:stretch/>
        </p:blipFill>
        <p:spPr>
          <a:xfrm>
            <a:off x="7020000" y="5516640"/>
            <a:ext cx="1425600" cy="1017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3 Imagen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360" name="4 Imagen" descr=""/>
          <p:cNvPicPr/>
          <p:nvPr/>
        </p:nvPicPr>
        <p:blipFill>
          <a:blip r:embed="rId2"/>
          <a:stretch/>
        </p:blipFill>
        <p:spPr>
          <a:xfrm>
            <a:off x="177840" y="171360"/>
            <a:ext cx="216216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4T17:11:31Z</dcterms:created>
  <dc:creator>familia garcia</dc:creator>
  <dc:description/>
  <dc:language>en-US</dc:language>
  <cp:lastModifiedBy> </cp:lastModifiedBy>
  <dcterms:modified xsi:type="dcterms:W3CDTF">2015-03-11T22:32:48Z</dcterms:modified>
  <cp:revision>13</cp:revision>
  <dc:subject/>
  <dc:title>EL CLIMA</dc:title>
</cp:coreProperties>
</file>